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21A-CD68-41D7-B7C4-C47C48FC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DAAB-98CA-4FB6-9BB6-B2D15A6A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3B4-05B0-4B06-8957-A47A5143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21C-1F2C-4F10-A3F4-52194296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7C01-E976-4F40-9FB9-60AE2C31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CBA-B276-41F9-8B3C-C88ED267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870-217B-4338-BA91-A425F57E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D22-2CEC-428F-B735-83B49205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BDC-D033-4F3A-B1DD-E0E18C96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3E6-F91D-44A2-B123-F94D151C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8AE-51B2-492D-A648-D514C32E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DC2-2C76-4AE0-9853-EABF1AED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8C7A-82C7-42A0-834A-A25570238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xt sections of the tutorial follow Jane, a Pacific Seminar student, as she conducts h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, I will check it ou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 of Jane checking ou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to do a paper for my PacSem class on “What is a Good Society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ciety I like best is MySpace! That’s what I want to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ent to Google and entered “MySpace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ot more than 213 million hit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oked on Wikipedia but my professor said I can’t use it as my only sou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rofessor suggested that I ask a librarian for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ent to the library’s reference desk to see if anyone could help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my topic is a little too broa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rarian suggested ways to narrow my topic by thinking about different aspects of “MySpa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the search c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pace and friend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pace and 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pace and sexual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ay, now I get it! I ch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pa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iend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rarian showed me the library’s homep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lots of information there! What a great place to st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104760"/>
            <a:ext cx="975384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, I looked in PacifiCat for 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was only one, but I used the subject headings to look for othe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one I sele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4:32:05Z</dcterms:created>
  <dc:creator>lknight</dc:creator>
  <dc:description/>
  <dc:language>en-US</dc:language>
  <cp:lastModifiedBy>lknight</cp:lastModifiedBy>
  <dcterms:modified xsi:type="dcterms:W3CDTF">2006-11-12T23:36:36Z</dcterms:modified>
  <cp:revision>6</cp:revision>
  <dc:subject/>
  <dc:title>Getting Started!</dc:title>
</cp:coreProperties>
</file>